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C31-D877-47CC-AA44-42485E0D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000-A8BF-4470-9119-74180C5F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800-76DF-4FEF-8D48-019B5DD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FD0-E939-48D7-8EC3-49309F6A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CD-5934-4338-B620-5E1C2907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782-976F-415E-BE90-E22D65D4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F30-9713-4012-A970-B14E4ACF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F01-2D80-4844-A6F0-4D5184DF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6C6-254C-4D0E-B54E-2659881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7F5-4636-41A3-B154-D01A7BE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5F1-4E66-4296-9F55-BC1A7A1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C60-AF58-477D-8A70-3F4DC47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58DC41C-8709-48DE-8ED3-3604934AFE1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B090F-941A-4D2B-9B92-91E4DBE14E4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E96923D-AB28-4E87-88D9-FCC066E7850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Web Service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 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truttura delle Directori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88000" cy="4074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: Ho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360" cy="46400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truttura di una Web Application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5800" cy="4401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ache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476360" y="1324080"/>
            <a:ext cx="7667280" cy="47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di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60360" y="1413000"/>
            <a:ext cx="72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ifica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03280" y="1344600"/>
            <a:ext cx="7200720" cy="4389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835280" y="1700280"/>
            <a:ext cx="6481440" cy="2909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tallare sulla macchina server il tool JDK (consigliata la versione 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ertarsi che il Web Server Tomcat abbia i riferimenti a tale tool. A questo scopo andare nella configurazione di Tomcat e selezionare la scheda “Java”. Assicurarsi che la Java Virtual Machine abbia un path del tipo “C:\Programmi\Java\jdk1.6.0_06\jre\bin\client\jvm.dll” cioè punti alla dll contenuta nella cartella jdk e non all’analoga dll contenuta nella cartella jre. Inoltre inserire nel Java Classpath il percorso “C:\Programmi\Java\jdk1.6.0_06\lib\tools.j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dt" idx="2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127640" cy="4473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273440" cy="4563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1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7132320" cy="36460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: varie implementazioni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 di implementazion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ache SOAP per Java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AP::Lite per Perl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ordiamo che un WS si compon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listener che resta in attesa di messagg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proxy che prende il messaggio e lo traduce in qualcosa da fare (ad esempio invocare un metodo su un oggetto Java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application cod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rchiamo di fare in modo che l’application code non sia a conoscenza dell’esistenza del listener e del proxy, anzi che non sia affatto a conoscenza di essere invocato dall’interfaccia di un WS (non sempre è possibile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ubblicazione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000" cy="25318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File WSDD deploy.wsd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7056000" cy="40986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768720" cy="452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3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 per 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47640" y="1700280"/>
            <a:ext cx="6984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E’ necessario inserire in CLASSPATH tutte le librerie jar contenute nella directory lib di axis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uova Lista dei Servizi e WSDL del nostro esempi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360" cy="4200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ltro metodo per pubblicare servizi: J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000" cy="372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 J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272000" cy="3409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345080" cy="36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16360" cy="41605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ynamic Invoc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767280" cy="38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stire i messaggi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18284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egrazione di SOAP con i vari toolkit varia con il livello di trasport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implementano i loro server HTT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ri casi, il “demone” HTTP passa il messaggio al proxy, che si prende cura di invocare l’application c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640" y="3481920"/>
            <a:ext cx="6228000" cy="239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hiamata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258920" y="1330200"/>
            <a:ext cx="7416360" cy="425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4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ato Client: Generated Stub (WSDL2Java)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056000" cy="3058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mplementazione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624360" cy="45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360" cy="422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000" cy="4012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4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9080" cy="431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scali Web Servic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8360" cy="485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ccanismi di trasporto “pluggable”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tools permettono all’utente di selezionare il meccanismo di trasporto tra differenti possibilità (FTP,SMTP,Japper,IO, ecc.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mponente Proxy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xy deve effettuare tre azion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cessario, “deserializzare” il messaggio, da XML a qualche formato nativo adatto per consentire l’invocazione del codic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ializzare la risposta in XML e passarla al listener che si occuperà di trasmetterla al richiedent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prescindere dalle varie implementazioni, tutti i toolkit SOAP prevedono per il proxy questi semplici pass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ploying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ploying un WS significa dire al componente proxy quale tipo di codice deve essere invocato quando viene ricevuto un particolare tipo di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mponente proxy deve sapere che se arriva un messaggi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etQuo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e invocare qualche metodo della classe Java samples.quoteServers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WS tools hanno differenti meccanismi di deployment. Per esempio l’implementazione Apache SOAP richiede l’esistenza di un file descrittore, che descrive le classi Java e le regole per mappare gli oggetti Java nei loro equivalenti XML. Questo file deve essere aggiunto al registro dei servizi usato da Apache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WS in Java con Apache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ache SOAP è l’implementazione SOAP della Apache Software Foundatio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segnata per essere eseguita come servlet su qualunque Java HTTP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tale, implementa solo il componente proxy della gestione del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ualmente, il toolkit si chiama AXI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e realizza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7129080" cy="3833280"/>
          </a:xfrm>
          <a:prstGeom prst="rect">
            <a:avLst/>
          </a:prstGeom>
          <a:ln w="9525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6443640" y="1700280"/>
            <a:ext cx="1080720" cy="2887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370560" y="1622520"/>
            <a:ext cx="108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Tomca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768720" cy="4770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  <Words>755</Words>
  <Paragraphs>137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4:45Z</dcterms:modified>
  <cp:revision>4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36</vt:r8>
  </property>
</Properties>
</file>